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80D2-69EC-49AA-8F8E-D59A0E57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04D-72F1-4AEA-8ECD-254AA288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67F-2A01-430A-80F2-A876AD0B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A0B-CD1B-40B6-B459-FC5495D3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746-2BD0-41C1-9849-B51301F4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C86-032F-47AC-A31B-E23F5FD2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85F-F80F-422E-82DB-25FF6446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39E-1ABC-44BB-84F2-C14ED1A1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096-F1B7-47B9-A604-A41661E8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BAB-0925-49D4-859D-F65AAA50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C99-CD03-4930-B6D0-E2F0FDB0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FB3-E1C7-408C-875A-5BAFBFD4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2D36-765E-4C86-9CFF-F209F4AAE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able of the Ten Vir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the smiling t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ing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of the people were prepared for judjement day; the other 5 weren’t and went to hell. Judgement Day comes without w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of what this parable means is like a pop quiz.  Always pay attention in class and know your facts because you never know when your teacher is going to give you a pop qu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7:15:47Z</dcterms:created>
  <dc:creator>mary augustin</dc:creator>
  <dc:description/>
  <dc:language>en-US</dc:language>
  <cp:lastModifiedBy>mary augustin</cp:lastModifiedBy>
  <dcterms:modified xsi:type="dcterms:W3CDTF">2009-05-08T17:15:50Z</dcterms:modified>
  <cp:revision>1</cp:revision>
  <dc:subject/>
  <dc:title>The Parable of the Ten Virgins</dc:title>
</cp:coreProperties>
</file>