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FD1-5373-4862-A7C5-7A8EE8EC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9F5-FE60-447E-BD6D-ECE622A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EE40-1ADA-4203-9489-5AE24082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BA5-4039-4351-A7F5-34CCB0D3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72D-BC7F-4C8E-B024-5714EE17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E8A-5CCA-411D-91D0-305E75F3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81B-3EEC-43F0-8459-B552EBE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605-5157-42BE-B9DE-D321634F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84E-3808-494D-A476-BBE6443D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44B-B511-4266-8173-1358E77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D4F-F568-4643-8C2C-32F21B3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334-B698-4550-BF38-537050FA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07A-7587-4E80-A466-A7D93E578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able of the Ten Vir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he smiling 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the people were prepared for judjement day; the other 5 weren’t and went to hell. Judgement Day comes without w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what this parable means is like a pop quiz.  Always pay attention in class and know your facts because you never know when your teacher is going to give you a pop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47Z</dcterms:created>
  <dc:creator>mary augustin</dc:creator>
  <dc:description/>
  <dc:language>en-US</dc:language>
  <cp:lastModifiedBy>mary augustin</cp:lastModifiedBy>
  <dcterms:modified xsi:type="dcterms:W3CDTF">2009-05-08T17:15:50Z</dcterms:modified>
  <cp:revision>1</cp:revision>
  <dc:subject/>
  <dc:title>The Parable of the Ten Virgins</dc:title>
</cp:coreProperties>
</file>