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BAC-9CD5-4D69-B3BD-66470724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BB4-1DDD-4049-9841-7E229B6E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525-2782-42F2-9010-893486ED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D12-0555-4893-93A5-918EC4AF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0B1-1A9B-4453-A96C-22C908C1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BF2-4349-4E1C-9DA1-EB73D84B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F13-5801-45D5-8EAD-441F2425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523-3767-4C6C-A58A-648333BA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1F6-ACC0-4EEC-9252-8C900B95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16CB-7E4C-4F0B-B584-6AE1FE30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F58-A8FE-4D94-BBC3-984999F5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2E6D-1CBB-4FE0-A92E-FBFFDD9B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2DED-8235-4671-BA21-18781FC4C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able of the Ten Vir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the smiling t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ing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 of the people were prepared for judjement day; the other 5 weren’t and went to hell. Judgement Day comes without w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of what this parable means is like a pop quiz.  Always pay attention in class and know your facts because you never know when your teacher is going to give you a pop qu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7:15:47Z</dcterms:created>
  <dc:creator>mary augustin</dc:creator>
  <dc:description/>
  <dc:language>en-US</dc:language>
  <cp:lastModifiedBy>mary augustin</cp:lastModifiedBy>
  <dcterms:modified xsi:type="dcterms:W3CDTF">2009-05-08T17:15:50Z</dcterms:modified>
  <cp:revision>1</cp:revision>
  <dc:subject/>
  <dc:title>The Parable of the Ten Virgins</dc:title>
</cp:coreProperties>
</file>