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A0A4-E59A-41A9-9DE1-0E892E6F6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E0CE-5349-4B11-B7BE-DEA663C8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FFCF-AAA7-48B8-B56F-C01ECB728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5FED-0173-4BE7-9C28-C5382E3A6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EEA3-E4D6-452D-9014-A8CA0EAD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B2BF-1D64-412F-976A-ED9A9B7E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011F-7D9F-40A0-8B00-D8D22FD6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8691-B69A-4E8A-B70D-712659BD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8A07-4D4D-47A6-B42A-3D5A02D9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F679-7829-44C7-91F7-56F47F5A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5562-67AB-4B7B-A065-EFD4C9F1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67FF-82C5-430D-A5E0-1F9D1D51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4F3C-D671-4A01-B0AD-9396957B5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ble of tal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hollagurl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his m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arable means that we need to use  what GOD gave us for his gl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if we use it for the right things then  GOD will bless us for doing the right 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irl had a acting talent  and asked GOD what she  should do with her talent; He told her what she should do. She obeyed and got ble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19:08:26Z</dcterms:created>
  <dc:creator>megan.pryor</dc:creator>
  <dc:description/>
  <dc:language>en-US</dc:language>
  <cp:lastModifiedBy>megan.pryor</cp:lastModifiedBy>
  <dcterms:modified xsi:type="dcterms:W3CDTF">2009-05-12T19:08:36Z</dcterms:modified>
  <cp:revision>1</cp:revision>
  <dc:subject/>
  <dc:title>Parable of talents</dc:title>
</cp:coreProperties>
</file>