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DBC-5BD4-4972-9DB4-B27BCCC5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DA04-6E53-4F9E-BE34-65ED682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77A-9CA0-4423-8835-1164076F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6AA-9063-4A25-8B98-BC423AD5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00F-A9A0-45EB-916C-39B050F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AEB-8592-427B-8EAC-C5F7BDF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2B9-F611-4483-B821-CEC6373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090-B128-422A-B7B7-CC1777F6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681-C192-4E4A-BDAD-18CD133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469-EC39-4187-9155-F4146C55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B1A-5E43-49C7-BB76-9184BAD4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14C-0B3A-4DED-A5DA-EA4A858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C8DE-BC8F-443F-9C05-2F04D7ED2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le of tal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ollagurl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arable means that we need to use  what GOD gave us for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f we use it for the right things then  GOD will bless us for doing the right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irl had a acting talent  and asked GOD what she  should do with her talent; He told her what she should do. She obeyed and got bl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26Z</dcterms:created>
  <dc:creator>megan.pryor</dc:creator>
  <dc:description/>
  <dc:language>en-US</dc:language>
  <cp:lastModifiedBy>megan.pryor</cp:lastModifiedBy>
  <dcterms:modified xsi:type="dcterms:W3CDTF">2009-05-12T19:08:36Z</dcterms:modified>
  <cp:revision>1</cp:revision>
  <dc:subject/>
  <dc:title>Parable of talents</dc:title>
</cp:coreProperties>
</file>