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6E1843-8A0B-4A1C-A4DA-3B11235D26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A1F8F3-9526-46E6-AE57-3E41182AA2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A941C4-699C-4D50-A196-14FCA2FC8C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08D4CB-425F-49F6-8473-840DF3EE11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AC6049-8F15-4824-AAF4-8B3A057C03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994E3C-44D6-414F-B574-CF67B8080A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057284-4F33-46E1-B581-9B70EFD288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8F34B5-8C54-4C83-95AB-5D32C9053B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8E39A8-0D20-4678-86EC-ABA151B98A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F4AB15-FA86-4CDE-B0A6-C592262E28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F272D4-884A-4E70-A741-44B7313642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834707-004F-419E-A1F6-A374DD4F5A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0EED24-CFEF-4648-B8AD-AE384367A1C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www.istockphoto.com/file_thumbview_approve/2255046/2/istockphoto_2255046-stay-alert.jpg" TargetMode="External"/><Relationship Id="rId2" Type="http://schemas.openxmlformats.org/officeDocument/2006/relationships/image" Target="../media/image1.jpeg"/><Relationship Id="rId3" Type="http://schemas.openxmlformats.org/officeDocument/2006/relationships/hyperlink" Target="http://imagecache.blastro.com/images/feat/Justin_Bieber1.jpg" TargetMode="External"/><Relationship Id="rId4" Type="http://schemas.openxmlformats.org/officeDocument/2006/relationships/image" Target="../media/image2.jpeg"/><Relationship Id="rId5" Type="http://schemas.openxmlformats.org/officeDocument/2006/relationships/hyperlink" Target="http://www.google.com/imgres?imgurl=http://www.onlinemodelcars.com/sites/pwaters/_files/image/2010camaro1.jpg&amp;imgrefurl=http://www.onlinemodelcars.com/2010camaro.php&amp;usg=__K6mwa63NOEJls2mnrvN-Y_tKZlI=&amp;h=768&amp;w=1024&amp;sz=708&amp;hl=en&amp;start=6&amp;itbs=1&amp;tbnid=pipx2c8TRA9d7M:&amp;tbnh=113&amp;tbnw=150&amp;prev=/images%3Fq%3Dcamaro%26hl%3Den%26gbv%3D2%26tbs%3Disch:1" TargetMode="External"/><Relationship Id="rId6" Type="http://schemas.openxmlformats.org/officeDocument/2006/relationships/image" Target="../media/image3.jpeg"/><Relationship Id="rId7"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http://www.google.com/imgres?imgurl=http://www.cartoonstock.com/newscartoons/cartoonists/ena/lowres/enan59l.jpg&amp;imgrefurl=http://www.cartoonstock.com/directory/s/stack_of_paper_gifts.asp&amp;usg=__lkhCQal_LHl8wNNLDtcmGNq6Nec=&amp;h=400&amp;w=296&amp;sz=30&amp;hl=en&amp;start=8&amp;itbs=1&amp;tbnid=49Slcfh05BNbwM:&amp;tbnh=124&amp;tbnw=92&amp;prev=/images%3Fq%3Dstack%2Bof%2Bpaper%26hl%3Den%26gbv%3D2%26tbs%3Disch:1" TargetMode="External"/><Relationship Id="rId2" Type="http://schemas.openxmlformats.org/officeDocument/2006/relationships/image" Target="../media/image4.jpeg"/><Relationship Id="rId3" Type="http://schemas.openxmlformats.org/officeDocument/2006/relationships/hyperlink" Target="http://www.google.com/imgres?imgurl=http://mydailycolumn.files.wordpress.com/2009/09/graphics-mdc-ear.jpg&amp;imgrefurl=http://mydailycolumn.wordpress.com/page/2/&amp;usg=__jyZw5tNF3xmcbJoJJxX3YeXy9JI=&amp;h=768&amp;w=512&amp;sz=108&amp;hl=en&amp;start=2&amp;itbs=1&amp;tbnid=5Cea8Luq7vUqiM:&amp;tbnh=142&amp;tbnw=95&amp;prev=/images%3Fq%3Dear%26hl%3Den%26gbv%3D2%26tbs%3Disch:1" TargetMode="External"/><Relationship Id="rId4" Type="http://schemas.openxmlformats.org/officeDocument/2006/relationships/image" Target="../media/image5.jpeg"/><Relationship Id="rId5"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INGDOM PARABLES</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y: hhubbard18, </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REYNOLDS11, Cutiepuhtutie, and Dirtbikerider125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Parable of the Ten Virgins~Original</a:t>
            </a:r>
            <a:endParaRPr b="0" lang="en-US" sz="40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d's kingdom is like ten young virgins who took oil lamps and went out to greet the bridegroom. Five were silly and five were smart. The silly virgins took lamps, but no extra oil. The smart virgins took jars of oil to feed their lamps. The bridegroom didn't show up when they expected him, and they all fell asleep. "In the middle of the night someone yelled out, 'He's here! The bridegroom's here! Go out and greet him!' "The ten virgins got up and got their lamps ready. The silly virgins said to the smart ones, 'Our lamps are going out; lend us some of your oil.‘ "They answered, 'There might not be enough to go around; go buy your own.‘ "They did, but while they were out buying oil, the bridegroom arrived. When everyone who was there to greet him had gone into the wedding feast, the door was locked. "Much later, the other virgins, the silly ones, showed up and knocked on the door, saying, 'Master, we're here. Let us in.‘ "He answered, 'Do I know you? I don't think I know you.' "So stay alert. You have no idea when he might arrive.</a:t>
            </a:r>
            <a:br>
              <a:rPr sz="2000"/>
            </a:br>
            <a:br>
              <a:rPr sz="2000"/>
            </a:br>
            <a:r>
              <a:rPr b="0" lang="en-U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See full size image">
            <a:hlinkClick r:id="rId1"/>
          </p:cNvPr>
          <p:cNvPicPr/>
          <p:nvPr/>
        </p:nvPicPr>
        <p:blipFill>
          <a:blip r:embed="rId2"/>
          <a:stretch/>
        </p:blipFill>
        <p:spPr>
          <a:xfrm>
            <a:off x="0" y="5902200"/>
            <a:ext cx="1371600" cy="955800"/>
          </a:xfrm>
          <a:prstGeom prst="rect">
            <a:avLst/>
          </a:prstGeom>
          <a:ln w="0">
            <a:noFill/>
          </a:ln>
        </p:spPr>
      </p:pic>
      <p:pic>
        <p:nvPicPr>
          <p:cNvPr id="46" name="" descr="See full size image">
            <a:hlinkClick r:id="rId3"/>
          </p:cNvPr>
          <p:cNvPicPr/>
          <p:nvPr/>
        </p:nvPicPr>
        <p:blipFill>
          <a:blip r:embed="rId4"/>
          <a:stretch/>
        </p:blipFill>
        <p:spPr>
          <a:xfrm>
            <a:off x="0" y="0"/>
            <a:ext cx="2743200" cy="1603440"/>
          </a:xfrm>
          <a:prstGeom prst="rect">
            <a:avLst/>
          </a:prstGeom>
          <a:ln w="0">
            <a:noFill/>
          </a:ln>
        </p:spPr>
      </p:pic>
      <p:pic>
        <p:nvPicPr>
          <p:cNvPr id="47" name="" descr="">
            <a:hlinkClick r:id="rId5"/>
          </p:cNvPr>
          <p:cNvPicPr/>
          <p:nvPr/>
        </p:nvPicPr>
        <p:blipFill>
          <a:blip r:embed="rId6"/>
          <a:stretch/>
        </p:blipFill>
        <p:spPr>
          <a:xfrm>
            <a:off x="5791320" y="0"/>
            <a:ext cx="3352680" cy="2438280"/>
          </a:xfrm>
          <a:prstGeom prst="rect">
            <a:avLst/>
          </a:prstGeom>
          <a:ln w="0">
            <a:noFill/>
          </a:ln>
        </p:spPr>
      </p:pic>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arable of the Ten </a:t>
            </a:r>
            <a:r>
              <a:rPr b="1" lang="en-US" sz="3200" spc="-1" strike="noStrike">
                <a:solidFill>
                  <a:srgbClr val="000000"/>
                </a:solidFill>
                <a:latin typeface="Arial"/>
              </a:rPr>
              <a:t>Virgins</a:t>
            </a:r>
            <a:r>
              <a:rPr b="1" lang="en-US" sz="3200" spc="-1" strike="noStrike">
                <a:solidFill>
                  <a:srgbClr val="ffffff"/>
                </a:solidFill>
                <a:latin typeface="Arial"/>
              </a:rPr>
              <a:t>~ Our Version</a:t>
            </a:r>
            <a:endParaRPr b="0" lang="en-US" sz="3200" spc="-1" strike="noStrike">
              <a:solidFill>
                <a:srgbClr val="000000"/>
              </a:solidFill>
              <a:latin typeface="Arial"/>
            </a:endParaRPr>
          </a:p>
        </p:txBody>
      </p:sp>
      <p:sp>
        <p:nvSpPr>
          <p:cNvPr id="49" name="PlaceHolder 2"/>
          <p:cNvSpPr>
            <a:spLocks noGrp="1"/>
          </p:cNvSpPr>
          <p:nvPr>
            <p:ph/>
          </p:nvPr>
        </p:nvSpPr>
        <p:spPr>
          <a:xfrm>
            <a:off x="457200" y="1599840"/>
            <a:ext cx="8229600" cy="48006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re was a boy who lived in a small town in Cana</a:t>
            </a:r>
            <a:r>
              <a:rPr b="1" lang="en-US" sz="1600" spc="-1" strike="noStrike">
                <a:solidFill>
                  <a:srgbClr val="ffffff"/>
                </a:solidFill>
                <a:latin typeface="Arial"/>
              </a:rPr>
              <a:t>da and his name was Justin</a:t>
            </a:r>
            <a:r>
              <a:rPr b="1" lang="en-US" sz="1600" spc="-1" strike="noStrike">
                <a:solidFill>
                  <a:srgbClr val="000000"/>
                </a:solidFill>
                <a:latin typeface="Arial"/>
              </a:rPr>
              <a:t> Bieber. He became a famous singer and all the girl</a:t>
            </a:r>
            <a:r>
              <a:rPr b="1" lang="en-US" sz="1600" spc="-1" strike="noStrike">
                <a:solidFill>
                  <a:srgbClr val="ffffff"/>
                </a:solidFill>
                <a:latin typeface="Arial"/>
              </a:rPr>
              <a:t>s went crazy over him. One</a:t>
            </a:r>
            <a:r>
              <a:rPr b="1" lang="en-US" sz="1600" spc="-1" strike="noStrike">
                <a:solidFill>
                  <a:srgbClr val="000000"/>
                </a:solidFill>
                <a:latin typeface="Arial"/>
              </a:rPr>
              <a:t> day he met Selena Gomez and right when he saw h</a:t>
            </a:r>
            <a:r>
              <a:rPr b="1" lang="en-US" sz="1600" spc="-1" strike="noStrike">
                <a:solidFill>
                  <a:srgbClr val="ffffff"/>
                </a:solidFill>
                <a:latin typeface="Arial"/>
              </a:rPr>
              <a:t>er he had a major crush</a:t>
            </a:r>
            <a:r>
              <a:rPr b="1" lang="en-US" sz="1600" spc="-1" strike="noStrike">
                <a:solidFill>
                  <a:srgbClr val="000000"/>
                </a:solidFill>
                <a:latin typeface="Arial"/>
              </a:rPr>
              <a:t> over her. Selena, however didn't like him and knew</a:t>
            </a:r>
            <a:r>
              <a:rPr b="1" lang="en-US" sz="1600" spc="-1" strike="noStrike">
                <a:solidFill>
                  <a:srgbClr val="ffffff"/>
                </a:solidFill>
                <a:latin typeface="Arial"/>
              </a:rPr>
              <a:t> he was a stuck-up, selfish</a:t>
            </a:r>
            <a:r>
              <a:rPr b="1" lang="en-US" sz="1600" spc="-1" strike="noStrike">
                <a:solidFill>
                  <a:srgbClr val="000000"/>
                </a:solidFill>
                <a:latin typeface="Arial"/>
              </a:rPr>
              <a:t> kid. He wanted to get her to like him and would do</a:t>
            </a:r>
            <a:r>
              <a:rPr b="1" lang="en-US" sz="1600" spc="-1" strike="noStrike">
                <a:solidFill>
                  <a:srgbClr val="ffffff"/>
                </a:solidFill>
                <a:latin typeface="Arial"/>
              </a:rPr>
              <a:t> </a:t>
            </a:r>
            <a:r>
              <a:rPr b="1" lang="en-US" sz="1600" spc="-1" strike="noStrike">
                <a:solidFill>
                  <a:srgbClr val="000000"/>
                </a:solidFill>
                <a:latin typeface="Arial"/>
              </a:rPr>
              <a:t>anything for her. Selena's birthday was coming up and he got invited to her party which was surprising. He knew this was his chance to prove to her that he was mature. He was going to get her the best birthday gift ever. He asked her mom what she wanted and her mom said she wanted a red hot camero. He said okay and then went out to the car dealer and decided that he was going to get it for her. He found a camero that fit her description and he got a discount on the car. He was getting ready for her party and as he was driving he saw Demi Lavota. Demi saw him and said nice ride. He said thanks and drove off. He later saw her at the party and talked with her for a while. Later Selana arrived in a limo at the hotel (which was were there party was) and they had cake. Selena started opening her presents and it was down to just Justin's present. He took her down blind-folded and then took it off and showed her the new camero. Selena was so excited for her new car and forgot that she hated Justin. After the excitement winded down they went back up to the penthouse. It was time for everyone to leave and Justin remembered he didn’t have a ride home and forgot to ask Usher. He was making last minute phone calls but no one could come out and get him. Justin had to spend the night at the hotel and wait for his mom to come and pick him up. Justin learned that day that you have to be prepared for situations like this. You must always stay alert, because you never know what might happe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Parable of the Sower~ Original</a:t>
            </a:r>
            <a:endParaRPr b="0" lang="en-US" sz="40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at same day Jesus went out of the house and sat by the lake. Such large crowds gathered around him that he got into a boat and sat in it, while all the people stood on the shore. Then he told them many things in parables, saying: "A farmer went out to sow his seed. As he was scattering the seed, some fell along the path, and the birds came and ate it up. Some fell on rocky places, where it did not have much soil. It sprang up quickly, because the soil was shallow. But when the sun came up, the plants were scorched, and they withered because they had no root. Other seed fell among thorns, which grew up and choked the plants. Still other seed fell on good soil, where it produced a crop—a hundred, sixty or thirty times what was sown. He who has ears, let him hear."</a:t>
            </a:r>
            <a:br>
              <a:rPr sz="2000"/>
            </a:br>
            <a:br>
              <a:rPr sz="2000"/>
            </a:br>
            <a:r>
              <a:rPr b="0" lang="en-U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a:hlinkClick r:id="rId1"/>
          </p:cNvPr>
          <p:cNvPicPr/>
          <p:nvPr/>
        </p:nvPicPr>
        <p:blipFill>
          <a:blip r:embed="rId2"/>
          <a:stretch/>
        </p:blipFill>
        <p:spPr>
          <a:xfrm>
            <a:off x="0" y="0"/>
            <a:ext cx="1922400" cy="2590920"/>
          </a:xfrm>
          <a:prstGeom prst="rect">
            <a:avLst/>
          </a:prstGeom>
          <a:ln w="0">
            <a:noFill/>
          </a:ln>
        </p:spPr>
      </p:pic>
      <p:pic>
        <p:nvPicPr>
          <p:cNvPr id="53" name="" descr="">
            <a:hlinkClick r:id="rId3"/>
          </p:cNvPr>
          <p:cNvPicPr/>
          <p:nvPr/>
        </p:nvPicPr>
        <p:blipFill>
          <a:blip r:embed="rId4"/>
          <a:stretch/>
        </p:blipFill>
        <p:spPr>
          <a:xfrm>
            <a:off x="7462800" y="4572000"/>
            <a:ext cx="1681200" cy="2286000"/>
          </a:xfrm>
          <a:prstGeom prst="rect">
            <a:avLst/>
          </a:prstGeom>
          <a:ln w="0">
            <a:noFill/>
          </a:ln>
        </p:spPr>
      </p:pic>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he Parable of the Sower~ Our Version</a:t>
            </a:r>
            <a:endParaRPr b="0" lang="en-US" sz="40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at same day Jesus went out of the house and sat by the lake. Such large crowds gathered around him that he got into a boat and sat in it, while all the people stood on the shore. Then he told them many things in parables, saying: "A man went out to give flyers for his charity. As he was handing out flyers, some blew out of the window along the road, and cars drove by and ran over them. Some went to people who took and read the flyer, but then after just threw it away and didn't donate to the charity.</a:t>
            </a:r>
            <a:r>
              <a:rPr b="1" lang="en-US" sz="2400" spc="-1" strike="noStrike">
                <a:solidFill>
                  <a:srgbClr val="ffffff"/>
                </a:solidFill>
                <a:latin typeface="Arial"/>
              </a:rPr>
              <a:t> </a:t>
            </a:r>
            <a:r>
              <a:rPr b="1" lang="en-US" sz="2400" spc="-1" strike="noStrike">
                <a:solidFill>
                  <a:srgbClr val="000000"/>
                </a:solidFill>
                <a:latin typeface="Arial"/>
              </a:rPr>
              <a:t>Some people got stuff together to donate, but</a:t>
            </a:r>
            <a:r>
              <a:rPr b="1" lang="en-US" sz="2400" spc="-1" strike="noStrike">
                <a:solidFill>
                  <a:srgbClr val="ffffff"/>
                </a:solidFill>
                <a:latin typeface="Arial"/>
              </a:rPr>
              <a:t> never</a:t>
            </a:r>
            <a:r>
              <a:rPr b="1" lang="en-US" sz="2400" spc="-1" strike="noStrike">
                <a:solidFill>
                  <a:srgbClr val="000000"/>
                </a:solidFill>
                <a:latin typeface="Arial"/>
              </a:rPr>
              <a:t> went and gave it to the charity. Still others too</a:t>
            </a:r>
            <a:r>
              <a:rPr b="1" lang="en-US" sz="2400" spc="-1" strike="noStrike">
                <a:solidFill>
                  <a:srgbClr val="ffffff"/>
                </a:solidFill>
                <a:latin typeface="Arial"/>
              </a:rPr>
              <a:t>k the</a:t>
            </a:r>
            <a:r>
              <a:rPr b="1" lang="en-US" sz="2400" spc="-1" strike="noStrike">
                <a:solidFill>
                  <a:srgbClr val="000000"/>
                </a:solidFill>
                <a:latin typeface="Arial"/>
              </a:rPr>
              <a:t> flyers and took many donations to the charity</a:t>
            </a:r>
            <a:r>
              <a:rPr b="1" lang="en-US" sz="2400" spc="-1" strike="noStrike">
                <a:solidFill>
                  <a:srgbClr val="ffffff"/>
                </a:solidFill>
                <a:latin typeface="Arial"/>
              </a:rPr>
              <a:t>. They </a:t>
            </a:r>
            <a:r>
              <a:rPr b="1" lang="en-US" sz="2400" spc="-1" strike="noStrike">
                <a:solidFill>
                  <a:srgbClr val="000000"/>
                </a:solidFill>
                <a:latin typeface="Arial"/>
              </a:rPr>
              <a:t>even handed some out to other people. There</a:t>
            </a:r>
            <a:r>
              <a:rPr b="1" lang="en-US" sz="2400" spc="-1" strike="noStrike">
                <a:solidFill>
                  <a:srgbClr val="ffffff"/>
                </a:solidFill>
                <a:latin typeface="Arial"/>
              </a:rPr>
              <a:t>fore, he</a:t>
            </a:r>
            <a:r>
              <a:rPr b="1" lang="en-US" sz="2400" spc="-1" strike="noStrike">
                <a:solidFill>
                  <a:srgbClr val="000000"/>
                </a:solidFill>
                <a:latin typeface="Arial"/>
              </a:rPr>
              <a:t> who has ears, let him hea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Parable of the Net~ Original</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ce again, the kingdom of heaven is like a net that was let down into the lake and caught all kinds of fish. When it was full, the fishermen pulled it up on the shore. Then they sat down and collected the good fish in baskets, but threw the bad away. This is how it will be at the end of the age. The angels will come and separate the wicked from the righteous and throw them into the fiery furnace, where there will be weeping and gnashing of teeth. "Have you understood all these things?" Jesus asked. "Yes," they replied. He said to them, "Therefore every teacher of the law who has been instructed about the kingdom of heaven is like the owner of a house who brings out of his storeroom new treasures as well as ol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0" y="0"/>
            <a:ext cx="1914480" cy="1981080"/>
          </a:xfrm>
          <a:prstGeom prst="rect">
            <a:avLst/>
          </a:prstGeom>
          <a:ln w="0">
            <a:noFill/>
          </a:ln>
        </p:spPr>
      </p:pic>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Parable of the Net~ Our Version</a:t>
            </a:r>
            <a:endParaRPr b="0" lang="en-US" sz="40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s is a story of the teacher trying to teach. There was a teacher who was very dedicated to her job. She took her job very seriously and always answered her students questions seriously. She loved all of her student. One day one of her students named Jake threw a Lego at his classmate named Bob. Bob started crying because it him in the eye. Jake felt really bad after he did it, but Bob wouldn’t forgive him. Then Bob picked up a purple crayon and threw it at Jake as hard as he could. It hit him in the eye. The teacher saw this and gave them the verses of Matthew 13:47-52. After they read the verses, she explained how we need to follow Gods directions. They got along for the rest of the school year after that.</a:t>
            </a:r>
            <a:br>
              <a:rPr sz="2400"/>
            </a:br>
            <a:r>
              <a:rPr b="1"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28T02:56:09Z</dcterms:created>
  <dc:creator>Julie Hubbard</dc:creator>
  <dc:description/>
  <dc:language>en-US</dc:language>
  <cp:lastModifiedBy>Julie Hubbard</cp:lastModifiedBy>
  <dcterms:modified xsi:type="dcterms:W3CDTF">2010-04-28T03:28:05Z</dcterms:modified>
  <cp:revision>3</cp:revision>
  <dc:subject/>
  <dc:title>KINGDOM PARABLES</dc:title>
</cp:coreProperties>
</file>