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9D01-C0F1-4E15-A5FD-F3CC838E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343C-D88F-4904-B641-9FF7AF40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F7CB-B52B-4271-8D5B-88FE32ED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C93-3D4F-4250-8B8E-2BAFF1A7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FA8A-C165-45EA-90F0-64377061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B8F8-D195-4B5C-ABDE-5DBD92B4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F95C-9FF7-423D-9FB9-E26ED0CB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3343-BF1E-47AF-A077-1EE1EAC4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488B-699F-4CDF-8506-26FD4FAF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26A0-D061-4F38-ADF0-3D56F9CD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2323-F1D1-4A41-8DE3-20D29281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0B96-5028-4095-BE6D-2FF66B33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B607-162A-4EA2-95E9-434064EFB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able of the Ten Vir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the smiling t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ing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 of the people were prepared for judjement day; the other 5 weren’t and went to hell. Judgement Day comes without w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of what this parable means is like a pop quiz.  Always pay attention in class and know your facts because you never know when your teacher is going to give you a pop qui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7:15:47Z</dcterms:created>
  <dc:creator>mary augustin</dc:creator>
  <dc:description/>
  <dc:language>en-US</dc:language>
  <cp:lastModifiedBy>mary augustin</cp:lastModifiedBy>
  <dcterms:modified xsi:type="dcterms:W3CDTF">2009-05-08T17:15:50Z</dcterms:modified>
  <cp:revision>1</cp:revision>
  <dc:subject/>
  <dc:title>The Parable of the Ten Virgins</dc:title>
</cp:coreProperties>
</file>