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52E-1669-41F1-ABB7-9C6D04C7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176-309F-4167-854B-C6024DFE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0B9-E525-48DC-B1B4-71D4B7EA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B3D-D810-42A6-A5AF-5878E20E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5AA-F8E8-45B5-894A-38979FF6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142-62C2-4B89-9634-9B86CF4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B7A-270E-45FF-A5F2-71686DE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4173-FF76-47EA-935B-E2FE2E3E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AFC1-259F-4A76-BD29-837EC868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9C45-5B10-482D-8EA1-52DD3A76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ED5-D95D-4F30-BD8B-92AA0C7D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109-479D-4C06-98D4-0E1EA3B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AC6B-5F4D-425B-92D8-043AE7D1F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le of tal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ollagurl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is 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arable means that we need to use  what GOD gave us for his gl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f we use it for the right things then  GOD will bless us for doing the right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irl had a acting talent  and asked GOD what she  should do with her talent; He told her what she should do. She obeyed and got bl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9:08:26Z</dcterms:created>
  <dc:creator>megan.pryor</dc:creator>
  <dc:description/>
  <dc:language>en-US</dc:language>
  <cp:lastModifiedBy>megan.pryor</cp:lastModifiedBy>
  <dcterms:modified xsi:type="dcterms:W3CDTF">2009-05-12T19:08:36Z</dcterms:modified>
  <cp:revision>1</cp:revision>
  <dc:subject/>
  <dc:title>Parable of talents</dc:title>
</cp:coreProperties>
</file>